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E29A-4B96-4A2A-8054-DD4A3009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07F-3930-4ECB-8A03-55E46023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E2F-DEBE-4C34-8A89-03B4BD9C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38F-1E3B-4F1F-AD71-6B9D18A3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353-B63C-4962-B492-2F56A6CE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077A-F827-44EE-AD0C-7111E870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11F-7E87-4787-A4E1-72F2826F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C000-AF6D-4CFF-8EC3-4397761E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E32-B16F-4025-A0DE-01CDF7F5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9F4-B212-402F-B9B0-A51C0D85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062-CAA8-4286-AA3E-2613C829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C52-DA31-4044-B4E4-FB1EE5BCC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17C7-0F7D-4103-A09F-0A790BACBF05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A059-F1C3-49EB-8CFF-6E759D78F6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aveguides and 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ircul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nd in radar applications where it is necessary to have continuously rotating s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s can be rotationally symmetric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-sectional area must be more than double that of rectangular gu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expensive; takes up more space than rectangular gu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idg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operation at lower frequencies for a given set of outside dimens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attenuation and combined with its higher cost, limits it to special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or applications where continuous flexing occur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-wound ribbons of brass or copp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Waveguide Consider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Attenu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guides propagate huge amounts of pow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ies below cutoff, attenuation in waveguide very lar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ther Waveguide Consider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Attenu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ies above cutoff, guide supports traveling wav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nds and twis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601"/>
              </a:spcBef>
              <a:buClr>
                <a:srgbClr val="1191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 bend, E bend, tw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601"/>
              </a:spcBef>
              <a:buClr>
                <a:srgbClr val="1191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unt, series, hybrid or mag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n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601"/>
              </a:spcBef>
              <a:buClr>
                <a:srgbClr val="1191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lide-screw and double-slu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rmination and Attenu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edance of wavegu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al to ratio of strength of electric field to strength of magnetic fiel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place to connect fixed resistor to terminate it in its characteristic (wave) impedance as there is on coaxial cab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inations designed to match impedance of guide to ensure minimum of refl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ermination and Attenu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le Attenua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late source from reflections at its load to preclude frequency pull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 signal lev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e signal leve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p attenuator and vane attenua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rectional Coupl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-hole directional coup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pieces of waveguide with one side common to both guides and two holes in this common sid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ional coupl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ers energy from primary to adjacent secondary waveguide for energy traveling in guide in one direction on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upling and Waveguide Energy and Cavity Reson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methods of coupling energy into or out of a waveguide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be, loop, aper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vity Resona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l-walled chambers fitted with devices for admitting and extracting electromagnetic energ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ous physical forms; basic principles of operation the same for al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upling and Waveguide Energy and Cavity Reson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vity Tun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nant frequency of a cavity varied by changing any of three parameter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vity volu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vity induc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vity capaci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arison of Transmission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 of energy transmission depends o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itial cost and long-term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band to be used and information-carrying capa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ivity or privacy off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iability and noise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 level and e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acronym formed from words radio detection and rang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 of locating objects measurement of three coordina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ge, angle of azimuth (horizontal direction), angle of elev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s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ter and receiv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rger a radar antenna; the better the system’s resolu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Waveform and Range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 repetition frequency (PRF) or pulse repetition rate (PR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umber of pulses transmitted per seco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 repetition time (PR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 from beginning of one pulse to beginning of next pul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Waveform and Range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between pul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t time or receiver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ar mile equal to 2000 yd or 6000 f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System Parame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return echo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rive after transmission of next pul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unambiguous r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ge beyond which targets appear as second return echo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ar System Parame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ar transmi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F energy in extremely short pulses with long intervals of rest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peak p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sirable for strong ech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a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sic Radar Block Diagr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-forming circuits in modulator triggered by timer and generate high-voltage pulses of rectangular shape and short du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ppler Eff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of reflected signal shifted if there is relative motion between source and reflecting obje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integrated Circuit Waveguid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crowave integrated circuits (MIC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-film hybrid and monolithic integrated circuits used at microwave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ipline and microstrip determined by physical dimensions and type of dielectr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trip circuit equivalents and dielectric wavegu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problems similar to ordinary transmission line proble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used to carry large amounts of microwave power capable of burning skin and damaging eyesigh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ver work on waveguide runs or antennas connected to transmitter or radar system is off and cannot be turned 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y surface separating two media of distinctly different conductivities or permittivities has guiding effect on electromagnetic wav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t guiding surface is between good dielectric and good conduct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llow metal tube or pipe used to conduct electromagnetic waves through its interi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Op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 propagated by wavegu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ctromagneti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ergy propagates down waveguide in radio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guide Op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guration of fields determines mode of op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M (transverse magneti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 of waveguide operation; magnetic field has no component in direction of propag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Wavegui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minant Mode of Op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ode of operation dominant mode; most “natural” one for op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guide thought of as high-pass filter; only very high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ose above waveguide cutoff frequency, can be propaga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5-1: Waveguide Bands/Siz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90920" y="3085920"/>
            <a:ext cx="3962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5-1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Waveguide Bands/Siz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Picture 5" descr="tab15_01.jpg"/>
          <p:cNvPicPr/>
          <p:nvPr/>
        </p:nvPicPr>
        <p:blipFill>
          <a:blip r:embed="rId1"/>
          <a:stretch/>
        </p:blipFill>
        <p:spPr>
          <a:xfrm>
            <a:off x="533520" y="228600"/>
            <a:ext cx="8013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hysical Picture of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veguid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 wave to exist in waveguide, it must satisfy Maxwell’s equations through the waveguid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e can be no tangential component of electric field at walls of wavegu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elds in T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aveguide resultant fields produced by ordinary plane electromagnetic wave that travels back and forth between sides of the gui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51:31Z</dcterms:modified>
  <cp:revision>6</cp:revision>
  <dc:subject/>
  <dc:title>Slide 1</dc:title>
</cp:coreProperties>
</file>